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53D0-4BEF-455B-9AB0-4DD306A5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F449-33A4-454F-9D7F-ED6498C0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A842-688D-49A7-9168-648F0130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AB1D-7687-4CBF-B3ED-817ED41C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8DCF-1B16-46AD-A57D-B7E56DAA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5AD8-4C22-45F4-95D3-EBC655BF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A12F-01A7-40FD-8307-A95FEBF3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5667-BAEA-41D4-BA3E-F4A5A23C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4280-9FFD-4ACD-ACEE-472BD9BF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2FD-8562-454E-A039-4679774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3A43-E6DE-4493-A0BB-44E5A7F1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FA17-24AB-4604-BAE4-2C891383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BA7A-FF32-4BF6-97A7-F870FC2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5C2E-F3F0-453B-95B2-D14EEDE4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5EF9-C719-49C4-BB99-0CF4D0D5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2E5E-28A4-434A-9CCF-D121F45E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4E80-2917-4D70-8B3E-4165D650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1234-BDD4-48C3-9598-55FB5B4F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19C9-DF8F-4710-83FF-58AE6BAA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E02B-5A4F-4E52-90DD-A3B70C06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197E-4F51-490B-B968-5ADA900A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A725-1AE2-4FEA-BAD3-5965FE6C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C5FA-8F5A-449D-8B4F-8B462FA4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508E-3EA6-40A0-A905-6C9EB43F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3066-4E22-4BA0-906C-1066CDB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D142-3095-40D7-8804-7679BF35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B78B-CD2E-4BAC-9426-7F27A29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6F4F-EAE4-464E-BF35-EA0504BD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0857-91C6-4429-B693-6F6ED492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F72A-DFFB-4C32-B249-50DC5614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847F-01B1-4FA2-AF8F-728C5574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4E67-E65D-4817-B360-611002D5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BFDE-87E1-46D1-B2A0-7625329A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9B50-95A1-4476-8D7D-6AD3F82A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DDB5-E9D7-4487-AB98-78A3E1C3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CC184-66BE-4072-A34F-476B456C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441AD-C5E3-4966-8918-208EACC0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DB35-9031-4618-B14D-275AB856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E8CB-2EE1-4A0E-AF7B-6F7DBC3F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5564C-8CAD-4CAA-AC16-5F114F43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0D2CF-5F25-473A-869A-AE5B0662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276C-3039-42D9-AB23-757D3B9E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6D30-EB3D-4C39-88B5-665FCC56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365A2-AFD2-4A9D-9625-1D01AB20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5448-239B-48B0-9EC4-60F9598F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008EC-2843-4796-9779-1253067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3FEE9-0D5B-4957-8436-19BCB33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CA29D-E53F-4539-B1DD-64A5D0E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DC81B-D481-4450-A262-54A6A117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5D753-F27D-40F3-9328-F1B43DE0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EF1C5-693B-4008-8C91-9B61D936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E6B6-16C3-44FA-96CF-14C9FE74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322E5-70B7-4EB2-9335-10FEA7F4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6BC81-C8F2-4614-8435-CCAF1EFB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D2B6-E603-4758-9A56-C5755652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2970-94A8-4D3A-AC7F-4862AFD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92103-900B-4700-9F16-127CAB1A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6175-5C9F-4586-8424-23C2C876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2190-F2DF-4981-843C-4DEF9C49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DF41-BEF5-4869-86FB-268E2625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8B44-3FB1-49F8-B467-22AB040A8B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C217-FA8C-4203-8809-DF0364C7F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C670-6D68-4B02-8248-06AF2CC83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C043-C4A1-4CA2-B63F-33DD1CC9AD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4AD3-520D-4B5F-A381-1D4B37F76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Nueva Moda Catalog de Rop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Cailan O’Le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er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895480" y="19810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10" descr="155749_c"/>
          <p:cNvPicPr/>
          <p:nvPr/>
        </p:nvPicPr>
        <p:blipFill>
          <a:blip r:embed="rId2"/>
          <a:stretch/>
        </p:blipFill>
        <p:spPr>
          <a:xfrm>
            <a:off x="7162920" y="1676520"/>
            <a:ext cx="1452600" cy="2057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2" descr="301993_c"/>
          <p:cNvPicPr/>
          <p:nvPr/>
        </p:nvPicPr>
        <p:blipFill>
          <a:blip r:embed="rId3"/>
          <a:stretch/>
        </p:blipFill>
        <p:spPr>
          <a:xfrm>
            <a:off x="2819520" y="1676520"/>
            <a:ext cx="2474640" cy="32004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3"/>
          <p:cNvSpPr/>
          <p:nvPr/>
        </p:nvSpPr>
        <p:spPr>
          <a:xfrm>
            <a:off x="2514600" y="2362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243828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438280" y="4876920"/>
            <a:ext cx="2895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linda lleva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a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amisa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in mangu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de,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anco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ro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sado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os pantalones corto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zul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a pulsera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ranjado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anco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r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Otoño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na llev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u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uét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is 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os blue j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9" descr="303330_c"/>
          <p:cNvPicPr/>
          <p:nvPr/>
        </p:nvPicPr>
        <p:blipFill>
          <a:blip r:embed="rId2"/>
          <a:stretch/>
        </p:blipFill>
        <p:spPr>
          <a:xfrm>
            <a:off x="2514600" y="1981080"/>
            <a:ext cx="27972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vi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302216_c"/>
          <p:cNvPicPr/>
          <p:nvPr/>
        </p:nvPicPr>
        <p:blipFill>
          <a:blip r:embed="rId2"/>
          <a:stretch/>
        </p:blipFill>
        <p:spPr>
          <a:xfrm rot="20194800">
            <a:off x="533520" y="1218960"/>
            <a:ext cx="2798640" cy="396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301671_c"/>
          <p:cNvPicPr/>
          <p:nvPr/>
        </p:nvPicPr>
        <p:blipFill>
          <a:blip r:embed="rId3"/>
          <a:stretch/>
        </p:blipFill>
        <p:spPr>
          <a:xfrm rot="21352800">
            <a:off x="5105160" y="1676160"/>
            <a:ext cx="2955960" cy="41907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9"/>
          <p:cNvSpPr/>
          <p:nvPr/>
        </p:nvSpPr>
        <p:spPr>
          <a:xfrm rot="21374400">
            <a:off x="2361960" y="464832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delaria llev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abrig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ojo y negro,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sueter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jo , los blue jea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ima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152280" y="444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Picture 23" descr="302388_c"/>
          <p:cNvPicPr/>
          <p:nvPr/>
        </p:nvPicPr>
        <p:blipFill>
          <a:blip r:embed="rId2"/>
          <a:stretch/>
        </p:blipFill>
        <p:spPr>
          <a:xfrm rot="766800">
            <a:off x="5370120" y="1591920"/>
            <a:ext cx="2367000" cy="33526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4"/>
          <p:cNvSpPr/>
          <p:nvPr/>
        </p:nvSpPr>
        <p:spPr>
          <a:xfrm rot="881400">
            <a:off x="5181480" y="4648320"/>
            <a:ext cx="1898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ayde llev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 vaqueros blancos , la camis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ron y blanco ,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pulser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ron y neg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Picture 20" descr="302126_2_bem_c"/>
          <p:cNvPicPr/>
          <p:nvPr/>
        </p:nvPicPr>
        <p:blipFill>
          <a:blip r:embed="rId3"/>
          <a:stretch/>
        </p:blipFill>
        <p:spPr>
          <a:xfrm rot="20498400">
            <a:off x="759960" y="2383920"/>
            <a:ext cx="269100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ceso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05758151-02"/>
          <p:cNvPicPr/>
          <p:nvPr/>
        </p:nvPicPr>
        <p:blipFill>
          <a:blip r:embed="rId2"/>
          <a:stretch/>
        </p:blipFill>
        <p:spPr>
          <a:xfrm rot="21148200">
            <a:off x="456840" y="2133360"/>
            <a:ext cx="1727280" cy="2590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00026565-02"/>
          <p:cNvPicPr/>
          <p:nvPr/>
        </p:nvPicPr>
        <p:blipFill>
          <a:blip r:embed="rId3"/>
          <a:stretch/>
        </p:blipFill>
        <p:spPr>
          <a:xfrm rot="703800">
            <a:off x="2819520" y="3962520"/>
            <a:ext cx="1726920" cy="2590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87533964-02"/>
          <p:cNvPicPr/>
          <p:nvPr/>
        </p:nvPicPr>
        <p:blipFill>
          <a:blip r:embed="rId4"/>
          <a:stretch/>
        </p:blipFill>
        <p:spPr>
          <a:xfrm>
            <a:off x="6248520" y="2133720"/>
            <a:ext cx="1676160" cy="1874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86806698-01"/>
          <p:cNvPicPr/>
          <p:nvPr/>
        </p:nvPicPr>
        <p:blipFill>
          <a:blip r:embed="rId5"/>
          <a:stretch/>
        </p:blipFill>
        <p:spPr>
          <a:xfrm>
            <a:off x="5943600" y="4648320"/>
            <a:ext cx="1684440" cy="20574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9"/>
          <p:cNvSpPr/>
          <p:nvPr/>
        </p:nvSpPr>
        <p:spPr>
          <a:xfrm rot="21098400">
            <a:off x="304560" y="15998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Coll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Box 10"/>
          <p:cNvSpPr/>
          <p:nvPr/>
        </p:nvSpPr>
        <p:spPr>
          <a:xfrm rot="851400">
            <a:off x="3201840" y="3505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 Are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61722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Anil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Box 12"/>
          <p:cNvSpPr/>
          <p:nvPr/>
        </p:nvSpPr>
        <p:spPr>
          <a:xfrm>
            <a:off x="6172200" y="4114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 Bol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ttp://www.forever21.com/images/jeans/00030493-03.jpg"/>
          <p:cNvPicPr/>
          <p:nvPr/>
        </p:nvPicPr>
        <p:blipFill>
          <a:blip r:embed="rId2"/>
          <a:stretch/>
        </p:blipFill>
        <p:spPr>
          <a:xfrm rot="20219400">
            <a:off x="380520" y="434304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http://www.forever21.com/images/jeans/86807503-02.jpg"/>
          <p:cNvPicPr/>
          <p:nvPr/>
        </p:nvPicPr>
        <p:blipFill>
          <a:blip r:embed="rId3"/>
          <a:stretch/>
        </p:blipFill>
        <p:spPr>
          <a:xfrm rot="786000">
            <a:off x="250560" y="45540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http://www.forever21.com/images/jeans/00030865-04.jpg"/>
          <p:cNvPicPr/>
          <p:nvPr/>
        </p:nvPicPr>
        <p:blipFill>
          <a:blip r:embed="rId4"/>
          <a:stretch/>
        </p:blipFill>
        <p:spPr>
          <a:xfrm rot="20039400">
            <a:off x="6921000" y="533160"/>
            <a:ext cx="1600200" cy="2400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ttp://www.forever21.com/images/jeans/00006368-03.jpg"/>
          <p:cNvPicPr/>
          <p:nvPr/>
        </p:nvPicPr>
        <p:blipFill>
          <a:blip r:embed="rId5"/>
          <a:stretch/>
        </p:blipFill>
        <p:spPr>
          <a:xfrm rot="1210200">
            <a:off x="7314840" y="4689360"/>
            <a:ext cx="1333440" cy="2000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http://www.forever21.com/images/jeans/87533724-01.jpg"/>
          <p:cNvPicPr/>
          <p:nvPr/>
        </p:nvPicPr>
        <p:blipFill>
          <a:blip r:embed="rId6"/>
          <a:stretch/>
        </p:blipFill>
        <p:spPr>
          <a:xfrm>
            <a:off x="3733920" y="2438280"/>
            <a:ext cx="1676160" cy="25146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8"/>
          <p:cNvSpPr/>
          <p:nvPr/>
        </p:nvSpPr>
        <p:spPr>
          <a:xfrm rot="1685400">
            <a:off x="7850160" y="37342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s Gafas de S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Box 9"/>
          <p:cNvSpPr/>
          <p:nvPr/>
        </p:nvSpPr>
        <p:spPr>
          <a:xfrm>
            <a:off x="3809880" y="12952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Blusa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 marron y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Falda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 neg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Box 10"/>
          <p:cNvSpPr/>
          <p:nvPr/>
        </p:nvSpPr>
        <p:spPr>
          <a:xfrm rot="19731000">
            <a:off x="6331320" y="96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s Guan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Box 11"/>
          <p:cNvSpPr/>
          <p:nvPr/>
        </p:nvSpPr>
        <p:spPr>
          <a:xfrm rot="838800">
            <a:off x="887040" y="226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 Buf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Box 12"/>
          <p:cNvSpPr/>
          <p:nvPr/>
        </p:nvSpPr>
        <p:spPr>
          <a:xfrm rot="20017200">
            <a:off x="3960" y="3929040"/>
            <a:ext cx="14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s Bo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lus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8:00:36Z</dcterms:created>
  <dc:creator>olearycai</dc:creator>
  <dc:description/>
  <dc:language>en-US</dc:language>
  <cp:lastModifiedBy>Gina</cp:lastModifiedBy>
  <dcterms:modified xsi:type="dcterms:W3CDTF">2011-12-16T03:06:43Z</dcterms:modified>
  <cp:revision>23</cp:revision>
  <dc:subject/>
  <dc:title>Catalog de Ropa </dc:title>
</cp:coreProperties>
</file>